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BA13-C86A-4F89-98A2-2FE1587C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A2D9-E2AD-4425-B43A-1B7F30BF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90E9-2605-4004-BFAC-B9E6B2B5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81D7-2696-4B8E-931C-5E0BDABC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0227-773F-4666-8108-DD064DF3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40E6-2727-4CF6-8D27-E7F90F77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203C-DC2C-4790-9801-F1E8256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2C27-4CC6-4F7C-9166-21407CD5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4B11-B172-475C-9B2D-BBBFA03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43F4-88FD-42FB-8A2F-B0C9EB15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C855-BE53-4A7C-85D3-AEF2C2F8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89BF-607C-4B78-8BCF-872FCDD6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6A56-749C-421F-A18F-9590EB2A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CA3F-5C15-49BF-B21D-09004D4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6D7D-250B-4588-9004-71E6CC24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CA4-5B82-4B6B-85F8-8FF5EE52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84A1-75CC-45F4-926E-5C184CB8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CA1B-6215-4648-AC51-D739422C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E700-7C74-4154-9720-C81A419C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5374-F34C-4B48-A20B-E44EF998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1DA1-A920-4E86-844F-66E6F0C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12B2-E3E3-4FDB-9766-4EB7961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FDF1-3B80-43E9-9178-B69AF8B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EAEF-AA1B-4CDE-BDC0-0514FC7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BA37-0321-4B32-9703-6B543960616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7149-9ED3-49B6-9435-36131A6D9B4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880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6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пей с веселба, Изкупител дойд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Витлеем роден, а на Голгота умря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ой е Спас на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за нас умр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кни с радост: "Алилу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ак ожив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6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губеното Той да търси тръг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рез дола на смъртната сянка ми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ой е Спас на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за нас умр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кни с радост: "Алилу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ак ожив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5824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и блага да раздава дойд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ъв всяко село и град Той оти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ой е Спас на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за нас умр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кни с радост: "Алилу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ак ожив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мърт, о, грешний, тебе за да спас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йде тука Той и на Голгота умр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ой е Спас на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за нас умр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кни с радост: "Алилу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ак ожив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8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58:00Z</dcterms:modified>
  <cp:revision>46</cp:revision>
  <dc:subject/>
  <dc:title>Slide 1</dc:title>
</cp:coreProperties>
</file>